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glass.wav" ContentType="audio/x-wav"/>
  <Override PartName="/ppt/media/image6.png" ContentType="image/png"/>
  <Override PartName="/ppt/media/explode.wav" ContentType="audio/x-wav"/>
  <Override PartName="/ppt/media/image9.png" ContentType="image/png"/>
  <Override PartName="/ppt/media/cashreg.wav" ContentType="audio/x-wav"/>
  <Override PartName="/ppt/media/image13.png" ContentType="image/png"/>
  <Override PartName="/ppt/media/applause.wav" ContentType="audio/x-wav"/>
  <Override PartName="/ppt/media/image5.png" ContentType="image/png"/>
  <Override PartName="/ppt/media/image4.wmf" ContentType="image/x-wmf"/>
  <Override PartName="/ppt/media/image7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25.png" ContentType="image/png"/>
  <Override PartName="/ppt/media/driveby.wav" ContentType="audio/x-wav"/>
  <Override PartName="/ppt/media/image19.png" ContentType="image/png"/>
  <Override PartName="/ppt/media/image21.png" ContentType="image/png"/>
  <Override PartName="/ppt/media/clap.wav" ContentType="audio/x-wav"/>
  <Override PartName="/ppt/media/image16.png" ContentType="image/png"/>
  <Override PartName="/ppt/media/ricochet.wav" ContentType="audio/x-wav"/>
  <Override PartName="/ppt/media/image23.png" ContentType="image/png"/>
  <Override PartName="/ppt/media/image3.png" ContentType="image/png"/>
  <Override PartName="/ppt/media/gunshot.wav" ContentType="audio/x-wav"/>
  <Override PartName="/ppt/media/image11.png" ContentType="image/png"/>
  <Override PartName="/ppt/media/image12.png" ContentType="image/png"/>
  <Override PartName="/ppt/media/image14.png" ContentType="image/png"/>
  <Override PartName="/ppt/media/image15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6FD-99F4-4FD4-9BF5-E4818AA9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490-D812-4468-9997-E8A2237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D2A-EFC0-4606-A9DA-8A2E8090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12E-E14A-4A30-AD0C-8A0293D2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39B8-1700-43A5-816A-DC806068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229D-A047-4A27-95DB-27AB3C2B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C7FA-05E8-4570-8889-A13B5F11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93A0-3105-471D-B30E-D4E68D1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99A3-8283-401F-B815-E0316DB8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4FC5-21C7-4FCD-88EA-F1A7C6A0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9A4C-EF53-4B01-8817-601BBEF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FCC-FEF7-48D7-B5C2-F1558FDB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1F0B-C4AD-4ED4-A2DA-EB2ECBE0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3059-08B1-4EBE-B303-22611E9D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C653-B16B-464F-BA47-7774F43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E52C-3E7A-410C-A850-EE4DB150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4297-84F2-428B-8356-DE6EC4E1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4CC-3343-4352-872B-1F88D718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DAC-1572-47F9-8D10-6E2C413F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B6C-EA58-4CA3-BE30-2677303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8DB-A66C-4B48-BC66-832B66FC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F65-7973-490E-BB2C-01EF970F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261-BC2C-4348-A191-B9AF9D7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E2F-9F2E-4C49-BCF9-85486ACA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73E-4FAE-43F3-B416-91A54DADEF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4116-B47F-461A-A587-A3ECC931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680-FDDE-4058-B36D-DD89703FD7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2650-E39A-44D3-AAA9-5C029846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Растворы электролитов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E24E-4390-4FF1-9EEF-CF6A8FF798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643040"/>
            <a:ext cx="8466120" cy="19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05E-69EF-4B67-A25E-DEB22C58E9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1"/>
          <a:stretch/>
        </p:blipFill>
        <p:spPr>
          <a:xfrm>
            <a:off x="1500120" y="1752480"/>
            <a:ext cx="6751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F5D-E702-420B-B824-B8BE4D8BD7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23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DAD-F46A-430F-8715-42F9A90961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23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821-FCEA-431C-A007-02A89F8E30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357120" y="5072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143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036-B0D0-4039-81F6-D56812B748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160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11E-FAD3-4AC5-A42A-590CAEF7F1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89A-941E-4DA8-8B8E-1BF15FFC99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77C-B87D-4D2D-A515-EC1AACD752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998-2490-46FB-8CC6-05A1369676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9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397-DA57-4DFC-900D-DA4A3FE02F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лектрол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ЭД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</a:rPr>
              <a:t>: теория электролитической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ные положения ТЭ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ссоци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епень диссоци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1bd6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ассификация электрол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72D-AF6D-4459-8874-4549FB1763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214280" y="3500280"/>
            <a:ext cx="7620120" cy="314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B1E-9809-41F9-8954-5EDEA661B1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en-US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69F-FCBA-4A98-84C5-6DCE57470F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97" name="Object 12"/>
          <p:cNvGraphicFramePr/>
          <p:nvPr/>
        </p:nvGraphicFramePr>
        <p:xfrm>
          <a:off x="2908440" y="2192400"/>
          <a:ext cx="3936960" cy="32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8440" y="2192400"/>
                    <a:ext cx="393696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191-9210-4C1F-A6CB-822176EF1D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3571920" y="2571840"/>
            <a:ext cx="5572080" cy="31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B8E-88F5-4DD3-897F-3EE5D219C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3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643040"/>
            <a:ext cx="8323200" cy="1743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79A-2676-403E-B99A-5330A3644E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3233880" y="2717640"/>
            <a:ext cx="3286080" cy="21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514-ED6B-4B0B-A967-BC9716853A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676520"/>
            <a:ext cx="762012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3D1-0D9C-4F4F-A883-882178F573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2630520" y="2981160"/>
            <a:ext cx="449244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F99-9C67-4374-BC94-DE8A4269C3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Student</cp:lastModifiedBy>
  <dcterms:modified xsi:type="dcterms:W3CDTF">2013-05-02T10:27:33Z</dcterms:modified>
  <cp:revision>18</cp:revision>
  <dc:subject/>
  <dc:title>Презентация PowerPoint</dc:title>
</cp:coreProperties>
</file>